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jpeg" ContentType="image/jpe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2.jpeg" ContentType="image/jpeg"/>
  <Override PartName="/ppt/media/image15.wmf" ContentType="image/x-wmf"/>
  <Override PartName="/ppt/media/image14.wmf" ContentType="image/x-wmf"/>
  <Override PartName="/ppt/media/image25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727-472E-442A-923B-5419964E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90E6-B2BF-4AF8-8727-0F5B8CC1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D417-0E3E-4FC5-A5C0-53586082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9C1E-5288-45C5-8DAF-9313DAC3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837C-15C4-4E6E-A48E-4EDE8CA3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6E60-A0FB-4550-9141-803380D5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8D6-9BCF-43F6-96F2-4ACE6C97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98F3-76AE-40D1-B28F-A187ACB9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04A6-AE45-4933-BFB0-5CFD18F4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726B-65EB-42C5-888C-5CB01878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121F-DAE7-45B1-8F6F-04FEF180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A588-E82F-44EE-A8B6-E97B2F1A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0EBE-22AB-4AF1-8E0F-3467E3882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brent-krueger.com/images/2004%20Uncirc%20Nickel%20obverse-gs.jpg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theharpsyturtle.files.wordpress.com/2007/08/609px-2006_quarter_proof.png?w=400&amp;h=400" TargetMode="External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Comic Sans MS"/>
              </a:rPr>
              <a:t>Days </a:t>
            </a:r>
            <a:br>
              <a:rPr sz="6000"/>
            </a:br>
            <a:r>
              <a:rPr b="0" lang="en-US" sz="6000" spc="-1" strike="noStrike">
                <a:solidFill>
                  <a:srgbClr val="ff0066"/>
                </a:solidFill>
                <a:latin typeface="Comic Sans MS"/>
              </a:rPr>
              <a:t>of the </a:t>
            </a:r>
            <a:br>
              <a:rPr sz="6000"/>
            </a:br>
            <a:r>
              <a:rPr b="0" lang="en-US" sz="6000" spc="-1" strike="noStrike">
                <a:solidFill>
                  <a:srgbClr val="ff0066"/>
                </a:solidFill>
                <a:latin typeface="Comic Sans MS"/>
              </a:rPr>
              <a:t>Wee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19870200">
            <a:off x="380880" y="5334120"/>
            <a:ext cx="2743200" cy="973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2655000">
            <a:off x="5714640" y="914040"/>
            <a:ext cx="2759040" cy="985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19714800">
            <a:off x="6400800" y="3123720"/>
            <a:ext cx="2743200" cy="978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19406400">
            <a:off x="762120" y="761760"/>
            <a:ext cx="2819160" cy="1006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 rot="1743000">
            <a:off x="0" y="2971800"/>
            <a:ext cx="2987640" cy="1066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 rot="1387200">
            <a:off x="6019560" y="5257800"/>
            <a:ext cx="2606400" cy="932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3276720" y="4343400"/>
            <a:ext cx="2457360" cy="876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4956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3498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Comic Sans MS"/>
              </a:rPr>
              <a:t>Months of the Year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1866960" cy="993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1866960" cy="99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09480" y="3809880"/>
            <a:ext cx="1863720" cy="993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09480" y="5029200"/>
            <a:ext cx="1866960" cy="990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3352680" y="1447920"/>
            <a:ext cx="1866960" cy="993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3352680" y="2590920"/>
            <a:ext cx="1863720" cy="990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352680" y="3809880"/>
            <a:ext cx="1863720" cy="990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3352680" y="5029200"/>
            <a:ext cx="1863720" cy="993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6324480" y="1447920"/>
            <a:ext cx="1863720" cy="993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324480" y="2590920"/>
            <a:ext cx="1866960" cy="99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6324480" y="3886200"/>
            <a:ext cx="1863720" cy="993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2"/>
          <a:stretch/>
        </p:blipFill>
        <p:spPr>
          <a:xfrm>
            <a:off x="6324480" y="5181480"/>
            <a:ext cx="1866960" cy="993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3"/>
          <a:stretch/>
        </p:blipFill>
        <p:spPr>
          <a:xfrm>
            <a:off x="43434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2368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cc33"/>
                </a:solidFill>
                <a:latin typeface="Comic Sans MS"/>
              </a:rPr>
              <a:t>Mone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2152440" cy="2186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2004 Jefferson Nickel Obvers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5000" y="1311120"/>
            <a:ext cx="2362320" cy="2314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43000" y="3809880"/>
            <a:ext cx="2514600" cy="2479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5791320" y="3962520"/>
            <a:ext cx="2288880" cy="2307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19320" y="3276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6324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15000" y="3581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6324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076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cc33"/>
                </a:solidFill>
                <a:latin typeface="Comic Sans MS"/>
              </a:rPr>
              <a:t>Counting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4800600" cy="4400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3434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6083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8:45:38Z</dcterms:created>
  <dc:creator>lgriffin</dc:creator>
  <dc:description/>
  <dc:language>en-US</dc:language>
  <cp:lastModifiedBy>lbrannan</cp:lastModifiedBy>
  <dcterms:modified xsi:type="dcterms:W3CDTF">2010-03-05T18:04:02Z</dcterms:modified>
  <cp:revision>9</cp:revision>
  <dc:subject/>
  <dc:title>Days  of the  Week</dc:title>
</cp:coreProperties>
</file>